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E62-DA52-421A-B40F-0563E3DB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B1B-E629-4C36-90EE-0CAD61D4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D3D-933A-4F24-95FB-413FFFDD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5D2-9AB3-4546-B00E-8C501C63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DB3-4B39-4043-9213-A47B44D3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49E6-FCAD-42CD-803C-64F9C50A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590B-5D07-4F6E-85EB-0E7DBFEF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20F6-3FDF-4E49-9F89-E7C284EE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40B2-313B-498B-9AE2-F3B8A166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CC0-37AB-4B67-AA82-E1554CB1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2900-66B6-4864-A11C-0FA568C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65E-D376-4EC0-949F-42071F1D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10DC-C4D9-4FB2-B21B-5942DFBD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B41C-D22C-48CB-904F-206589E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906-30D1-45AA-871E-1F0F07D0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1D0A-E57F-4711-B528-178F7CF7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789D-8D85-437B-BA37-4EA04B6F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C85-BA4A-41AF-836F-24D23B1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747-7E27-449A-9A90-7585B00E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2A7-4DF9-46DB-9877-46F2F4B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D0D-BCA5-4368-866C-1E3BEBC5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CD0-904A-4AB3-A2C1-0F3F2D1E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AA4-29FB-4EA8-BEBC-DFAAF71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0FB-36B0-447F-AE02-D26CC07D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1BBF-876E-4BD8-9676-E2CCEEC38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F342-A3EB-4477-B7F3-EB84A9689C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73152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 Tell The Good News”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12, Lesson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121-2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of Paul’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3C78-69D6-4E09-9E03-2E65AD201F1A}" type="slidenum">
              <a:t>1</a:t>
            </a:fld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Rom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from Corinth in the winter of A.D. 5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theme of the book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ospel is the power of God unto salv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’s plan for righteousness is in the gospel and is for everybo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Jews were condemned by the la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ristians are justified by faith in Chr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67680" indent="-28764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Jews were rejected because of unbelief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67680" indent="-28764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Gentiles were accepted because of belief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’s grace demands responsibility for s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340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hristian dedicates his life to G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838-E9BF-4158-BABB-C6FDD069E82A}" type="slidenum">
              <a:t>10</a:t>
            </a:fld>
          </a:p>
        </p:txBody>
      </p:sp>
    </p:spTree>
  </p:cSld>
  <p:transition>
    <p:cover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 Travels To Jerusalem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wanted to make Jerusalem by Pentec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3 months in Corinth he sailed to Tro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left with the gift and with several compan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m Troas he went to Mile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met with the elders from Ephe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 ship landed at Tyre where he was warned not to go to Jerusal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reached Caesarea and was warned a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arrived in Jerusalem and was warmly received by the breth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AA8-B2AB-48C4-B413-8B295DA98CDA}" type="slidenum">
              <a:t>11</a:t>
            </a:fld>
          </a:p>
        </p:txBody>
      </p:sp>
    </p:spTree>
  </p:cSld>
  <p:transition>
    <p:cover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rouble Arises In Jerusalem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believing Jews from Asia stirred up the crowd into a riot sce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hief captain of the Roman guard rescued Paul, but bound him with chai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s granted permission to speak to the mob; he spoke in their dial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mob was enraged again when he spoke of being sent to the Genti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claimed his Roman citizen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3C0-4702-4791-86B6-A3942E7774B2}" type="slidenum">
              <a:t>12</a:t>
            </a:fld>
          </a:p>
        </p:txBody>
      </p:sp>
    </p:spTree>
  </p:cSld>
  <p:transition>
    <p:cover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Many Defense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The Mo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The Jewish Council (Sanhedri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stayed in Jerusalem 12 day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escorted to Caesarea for saf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s held in Caesarea for 2 ye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Felix (governor of Jude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Festus (successor to Felix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appeals to Caes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King Agrippa 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C4E-875D-4BCD-8A2C-26D1B71EE2F1}" type="slidenum">
              <a:t>13</a:t>
            </a:fld>
          </a:p>
        </p:txBody>
      </p:sp>
    </p:spTree>
  </p:cSld>
  <p:transition>
    <p:cover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Journey To Rom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and other prisoners left for Rome in a ship during a dangerous time of the y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ke and Aristarchus were with Pau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were shipwrecked near the island of Melita (Malta); there they spent the win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uke probably wrote the last half of Acts during this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reached Rome the next sp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190-6C96-42A0-A565-B901B71C108C}" type="slidenum">
              <a:t>14</a:t>
            </a:fld>
          </a:p>
        </p:txBody>
      </p:sp>
    </p:spTree>
  </p:cSld>
  <p:transition>
    <p:cover dir="r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772400" y="4495680"/>
            <a:ext cx="533520" cy="533520"/>
          </a:xfrm>
          <a:prstGeom prst="ellipse">
            <a:avLst/>
          </a:prstGeom>
          <a:noFill/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2670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ul’s Journey to 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182-B1C1-40D9-9C41-07F901A7E3A6}" type="slidenum">
              <a:t>15</a:t>
            </a:fld>
          </a:p>
        </p:txBody>
      </p:sp>
    </p:spTree>
  </p:cSld>
  <p:transition>
    <p:cover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801E-006 C -0.00069 -0.0104 -3.88888999999998E-006 -0.02103 -0.00226 -0.03097 C -0.00399 -0.03814 -0.01163 -0.04946 -0.01163 -0.04946 C -0.01076 -0.05986 -0.01094 -0.07026 -0.0092 -0.08043 C -0.00347 -0.11394 -0.00469 -0.06795 -0.00469 -0.09892 E">
                                      <p:cBhvr>
                                        <p:cTn id="63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9891 C -0.01302 -0.11555 -0.01267 -0.1352 -0.02101 -0.15161 C -0.02378 -0.1627 -0.02483 -0.17448 -0.02795 -0.18558 C -0.02899 -0.18904 -0.03021 -0.1932 -0.03264 -0.19482 C -0.0368 -0.1976 -0.04201 -0.19644 -0.04653 -0.19806 C -0.05139 -0.19968 -0.06059 -0.2043 -0.06059 -0.2043 C -0.10017 -0.20106 -0.13958 -0.1939 -0.17917 -0.20106 C -0.18194 -0.20152 -0.18351 -0.20592 -0.18611 -0.2073 C -0.19305 -0.21123 -0.20434 -0.21655 -0.21163 -0.21655 E">
                                      <p:cBhvr>
                                        <p:cTn id="633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164 -0.21665 C -0.21407 -0.19329 -0.21111 -0.19283 -0.229 -0.1852 C -0.22952 -0.18774 -0.22917 -0.19144 -0.23108 -0.19306 C -0.23507 -0.19699 -0.24115 -0.1963 -0.24618 -0.19838 C -0.25834 -0.20855 -0.24688 -0.20046 -0.26771 -0.20624 C -0.27205 -0.20763 -0.28056 -0.21156 -0.28056 -0.21133 C -0.28924 -0.21063 -0.29809 -0.21202 -0.3066 -0.20878 C -0.30868 -0.20809 -0.30834 -0.2037 -0.30868 -0.20092 C -0.30973 -0.1889 -0.3099 -0.17641 -0.31094 -0.16416 C -0.31146 -0.15884 -0.3125 -0.15352 -0.31302 -0.14821 C -0.31389 -0.13942 -0.31216 -0.12994 -0.31528 -0.12185 C -0.3165 -0.11861 -0.32084 -0.11954 -0.32379 -0.1193 C -0.3316 -0.11792 -0.33959 -0.11746 -0.3474 -0.11653 C -0.35104 -0.11746 -0.35504 -0.11699 -0.35816 -0.1193 C -0.36042 -0.12069 -0.3625 -0.12717 -0.3625 -0.12717 E">
                                      <p:cBhvr>
                                        <p:cTn id="63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25 -0.12694 C -0.35816 -0.11214 -0.3625 -0.11144 -0.3717 -0.10335 C -0.3783 -0.07884 -0.38368 -0.0726 -0.40243 -0.06798 C -0.4165 -0.04948 -0.429 -0.05734 -0.4467 -0.06474 C -0.45157 -0.08208 -0.44549 -0.06636 -0.45608 -0.07954 C -0.46563 -0.09156 -0.45539 -0.09225 -0.47483 -0.10035 C -0.4915 -0.10751 -0.48455 -0.10289 -0.49601 -0.11214 C -0.50834 -0.13595 -0.5217 -0.15052 -0.54306 -0.15977 C -0.55348 -0.17341 -0.54792 -0.16509 -0.5592 -0.18636 C -0.56059 -0.18936 -0.56129 -0.19353 -0.56389 -0.19538 C -0.58212 -0.2104 -0.57257 -0.20486 -0.59202 -0.21272 C -0.60504 -0.21225 -0.61858 -0.21249 -0.63177 -0.21017 C -0.63664 -0.20925 -0.64115 -0.20601 -0.64549 -0.20416 C -0.65851 -0.19838 -0.67257 -0.19815 -0.68542 -0.19214 C -0.68889 -0.17919 -0.69184 -0.17896 -0.70174 -0.17457 C -0.704 -0.16162 -0.704 -0.16694 -0.704 -0.15977 E">
                                      <p:cBhvr>
                                        <p:cTn id="63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8000"/>
                            </p:stCondLst>
                            <p:childTnLst>
                              <p:par>
                                <p:cTn id="6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1389 -0.14537 C -0.71076 -0.14653 -0.70694 -0.14583 -0.70451 -0.14861 C -0.70191 -0.15138 -0.7 -0.18235 -0.69983 -0.18258 C -0.69844 -0.18743 -0.68906 -0.19044 -0.68594 -0.19182 C -0.68507 -0.19922 -0.68125 -0.21447 -0.68125 -0.22279 E">
                                      <p:cBhvr>
                                        <p:cTn id="64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125 -0.22278 C -0.68299 -0.22972 -0.68386 -0.2526 -0.67882 -0.25699 C -0.67552 -0.25976 -0.66875 -0.25514 -0.66719 -0.25999 C -0.66389 -0.26947 -0.66719 -0.28056 -0.66719 -0.29096 E">
                                      <p:cBhvr>
                                        <p:cTn id="64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719 -0.29097 C -0.66129 -0.31362 -0.67223 -0.33141 -0.68577 -0.34366 C -0.68976 -0.36007 -0.69792 -0.3737 -0.70209 -0.39011 C -0.70278 -0.39936 -0.70313 -0.4086 -0.70435 -0.41784 C -0.70469 -0.42108 -0.70678 -0.42385 -0.70678 -0.42709 C -0.70678 -0.43957 -0.70556 -0.45205 -0.70435 -0.4643 C -0.704 -0.46753 -0.70209 -0.47354 -0.70209 -0.47354 E">
                                      <p:cBhvr>
                                        <p:cTn id="64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209 -0.47329 C -0.71372 -0.47884 -0.72396 -0.48532 -0.73438 -0.49364 C -0.7382 -0.49665 -0.74549 -0.50381 -0.74549 -0.50335 C -0.7467 -0.50705 -0.74792 -0.51075 -0.74948 -0.51399 C -0.75191 -0.51907 -0.75695 -0.52925 -0.75695 -0.52902 C -0.7592 -0.53826 -0.75677 -0.53665 -0.7625 -0.53665 E">
                                      <p:cBhvr>
                                        <p:cTn id="65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Imprisonment At Rom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was placed in a private house with one gu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continued to teach from the house for two y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uring this time he wrot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phes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ipp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oss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em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B55-63CC-45C6-BB84-47D53ADA5FD3}" type="slidenum">
              <a:t>16</a:t>
            </a:fld>
          </a:p>
        </p:txBody>
      </p:sp>
    </p:spTree>
  </p:cSld>
  <p:transition>
    <p:cover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Ephes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by Paul while a prisoner in 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particular error or heresy addres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messag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l spiritual blessings are in Chr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ce, faith and unity of the Spirit emphas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ys for the believers to “walk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som to be applied in various relationship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usbands and wiv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hildren and parent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rvants and maste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0B5-986B-4441-8B29-C33F4B23B2AD}" type="slidenum">
              <a:t>17</a:t>
            </a:fld>
          </a:p>
        </p:txBody>
      </p:sp>
    </p:spTree>
  </p:cSld>
  <p:transition>
    <p:cover dir="r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Coloss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by Paul while in prison in 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paphras had reported on the work at Colossa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olossians were exposed to different types of false teachings – needed encour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encouraged the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know the true majesty of Christ and His pow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appreciate the characteristics of a Christi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old self as compared to the new self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their responsibilities to their househol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AE8-CE26-4324-B7DC-2B4B19730787}" type="slidenum">
              <a:t>18</a:t>
            </a:fld>
          </a:p>
        </p:txBody>
      </p:sp>
    </p:spTree>
  </p:cSld>
  <p:transition>
    <p:cover dir="r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Philemon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ressed to Philemon, a member at Colossa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nts had been refreshed through Philemon’s faith and l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simus was Philemon’s sla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had converted One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had stolen from Philemon and ran awa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appealed to Philemon to receive him as a brother in Chr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offered to pay Philemon for any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191-C22C-4E4F-AA9D-8CC1045EAC1C}" type="slidenum">
              <a:t>19</a:t>
            </a:fld>
          </a:p>
        </p:txBody>
      </p:sp>
    </p:spTree>
  </p:cSld>
  <p:transition>
    <p:cover dir="r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Third Journe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0DA-4E17-4821-B75D-312AD7AC3310}" type="slidenum">
              <a:t>2</a:t>
            </a:fld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Philipp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by Paul to this Macedonian church to thank them for the “gifts” they sent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orted on his circumstan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couraged them to stand firm in the face of persec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horted them to humility and un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ended Timothy and Epaphroditus to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rned them about the Judaiz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inded them of their heavenly citizen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5C3-2F08-4B3D-8FD4-EFA739A059A5}" type="slidenum">
              <a:t>20</a:t>
            </a:fld>
          </a:p>
        </p:txBody>
      </p:sp>
    </p:spTree>
  </p:cSld>
  <p:transition>
    <p:cover dir="r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1st Timoth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instructed young Timoth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care for the growing church at Ephe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efute false te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appoint church lea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, how to deal with different group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men – their dress and pl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Older and Youn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a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D8F-1FAE-43F2-B101-EE26CDBD61E1}" type="slidenum">
              <a:t>21</a:t>
            </a:fld>
          </a:p>
        </p:txBody>
      </p:sp>
    </p:spTree>
  </p:cSld>
  <p:transition>
    <p:cover dir="r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Titu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itus: A young, uncircumcised Greek left in Crete during a fourth journ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had great confidence in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appoint elders in every c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watch for the false teac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teach the older, the younger, the serv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an example in his own lif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teach Christians how to live and do good wor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reject the heretics (non-conformis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9AA-7357-4ED9-881B-E7F8AAECE279}" type="slidenum">
              <a:t>22</a:t>
            </a:fld>
          </a:p>
        </p:txBody>
      </p:sp>
    </p:spTree>
  </p:cSld>
  <p:transition>
    <p:cover dir="r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2nd Timoth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532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’s last recorded let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 was lonely and in cha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Luke was with h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rned about the difficult times in the “last day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s concerned about the churches during a time of persecution by Ne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onished Timothy to guard the gospel, to persevere in it, to keep on preaching it, and to suffer for 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6A4-99E1-45E2-8CD7-5399D67B3CCF}" type="slidenum">
              <a:t>23</a:t>
            </a:fld>
          </a:p>
        </p:txBody>
      </p:sp>
    </p:spTree>
  </p:cSld>
  <p:transition>
    <p:cover dir="r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Death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53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was again imprisoned in 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s beheaded by Ne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time was about A.D. 65 or 6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had confidence that a crown of righteousness was laid up for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to all those who look for Christ’s com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had done his job of preaching and offering salvation to the Genti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een chapters in Acts cover his 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teen of his letters included in the B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023-2DA9-47F3-BB40-ECFAC11E6AC7}" type="slidenum">
              <a:t>24</a:t>
            </a:fld>
          </a:p>
        </p:txBody>
      </p:sp>
    </p:spTree>
  </p:cSld>
  <p:transition>
    <p:cover dir="r"/>
  </p:transition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Third Missionary Journe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rted out by himsel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traveled through Galatia and Phryg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ngthening all the disci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 this journey he wrote more letters (books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lat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Corinth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Corinth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om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mporer Claudius died; Nero now re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58F-9E36-4A02-A5DA-AEC5E9B53968}" type="slidenum">
              <a:t>3</a:t>
            </a:fld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’s Third Missionary Journe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ollos met up with Aquila and Priscilla in Ephesus and Apollos was sent to Corin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ollos knew only John’s bapt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arrived in Ephesu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ptized 12 men who knew only John’s bapt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gave them the Holy Spir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preached 3 months in the synagog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s opposed by unbelieving Je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B16-9C99-435C-BDB6-5E2F04DF42D9}" type="slidenum">
              <a:t>4</a:t>
            </a:fld>
          </a:p>
        </p:txBody>
      </p:sp>
    </p:spTree>
  </p:cSld>
  <p:transition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aizing teachers had influenced the chu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’s messag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is no other gospel but what he p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received it from God; not from m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ustification is by faith in Christ not by works of the law (circumcision, etc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rist freed the Jews from the bondage of the la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rist freed the Gentiles from idola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iritual freedom does not include the desires of the fl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Galati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440-1BBB-4319-B8E9-D931257A3097}" type="slidenum">
              <a:t>5</a:t>
            </a:fld>
          </a:p>
        </p:txBody>
      </p:sp>
    </p:spTree>
  </p:cSld>
  <p:transition>
    <p:cover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preached in Ephesus in the school of Tyrannus for two yea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d worked unusual miracles through Pau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made plans to go to Jerusalem via Macedonia and Gree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sent Timothy and Erastus ahe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nted to take a gift from the Gentile churches to the Jerusalem brethre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ul Preaches In Ephesu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950-588D-4920-A55F-4B68B249DCEC}" type="slidenum">
              <a:t>6</a:t>
            </a:fld>
          </a:p>
        </p:txBody>
      </p:sp>
    </p:spTree>
  </p:cSld>
  <p:transition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1st Corinth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from Ephesus in spring of A.D. 5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rinth was known for open and unbridled immor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Christian conduct in the church which Paul had to address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visions, instability, jealousy, envy, lawsuits, marital difficulties, sexual immorality, misuse of spiritual gifts, abuse of the Lord’s supper, and false teaching  concerning the resurr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must have love one for an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had written an earlier letter to them – 5: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0C6-424A-42CB-B809-6CBD2EDCA419}" type="slidenum">
              <a:t>7</a:t>
            </a:fld>
          </a:p>
        </p:txBody>
      </p:sp>
    </p:spTree>
  </p:cSld>
  <p:transition>
    <p:cover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rouble In Ephesu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metrius and the silversmiths made shrines to their goddess Dia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taught there are no gods made with han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teaching affected the silversmiths’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riot followed but the town clerk quieted the mo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left Ephesus after 3 years and went to Maced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C22-0E8C-4678-AB5C-C335851BAEAF}" type="slidenum">
              <a:t>8</a:t>
            </a:fld>
          </a:p>
        </p:txBody>
      </p:sp>
    </p:spTree>
  </p:cSld>
  <p:transition>
    <p:cover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7848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ummary of 2nd Corinthian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ritten from Macedonia on his way to Corin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was burden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his affictions, persecutions and fe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the delay in receiving a report from his first letter of rebu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itus finally reached him with a good report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ul explained in this letter –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 provides comfort in many way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eed for generosity in giv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s apostleship and autho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9F1-D488-487E-B85D-3321EA158F1B}" type="slidenum">
              <a:t>9</a:t>
            </a:fld>
          </a:p>
        </p:txBody>
      </p:sp>
    </p:spTree>
  </p:cSld>
  <p:transition>
    <p:cover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3:34:37Z</dcterms:created>
  <dc:creator>Don Vines</dc:creator>
  <dc:description/>
  <dc:language>en-US</dc:language>
  <cp:lastModifiedBy>Frank D Vines</cp:lastModifiedBy>
  <dcterms:modified xsi:type="dcterms:W3CDTF">2007-04-01T20:22:03Z</dcterms:modified>
  <cp:revision>24</cp:revision>
  <dc:subject/>
  <dc:title>Q12L22</dc:title>
</cp:coreProperties>
</file>